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50447"/>
        <c:axId val="15432311"/>
      </c:barChart>
      <c:catAx>
        <c:axId val="23750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32311"/>
        <c:crosses val="autoZero"/>
        <c:auto val="1"/>
        <c:lblAlgn val="ctr"/>
        <c:lblOffset val="100"/>
        <c:noMultiLvlLbl val="0"/>
      </c:catAx>
      <c:valAx>
        <c:axId val="15432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50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759-8261-4DB5-A45E-219DEF0C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D59-D7DF-4787-8D36-545E82BD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426-4B56-4EB5-8D4C-0E0EA84E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B1C-F636-4D26-9334-A26E9E14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286-0D2F-452B-95FC-99F0CC0E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EDA-D8F1-4D73-A84E-EF030BF2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B4A-9142-46C0-9C9D-828AFAEC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C90-826F-4BDA-B081-2B1FAFC7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696-9541-468F-A829-B5928E5D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CF7-B748-4268-9AC2-D447593D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EB8-3C6D-4969-8407-53C19169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148-EDD2-4885-B529-DA621EF5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55534-5035-4450-B0F4-0E70F94A5E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