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138184"/>
        <c:axId val="20922802"/>
      </c:barChart>
      <c:catAx>
        <c:axId val="691381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22802"/>
        <c:crosses val="autoZero"/>
        <c:auto val="1"/>
        <c:lblAlgn val="ctr"/>
        <c:lblOffset val="100"/>
        <c:noMultiLvlLbl val="0"/>
      </c:catAx>
      <c:valAx>
        <c:axId val="20922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381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F0A6-0406-4AE4-933D-9D9474A5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66C2-4895-42A5-A8D3-EA372309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90D7-3724-478A-943A-6B6480FB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0A96-3EB6-4642-BE87-6CBE5F36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3C5E-01B4-4955-8304-71ED16E3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26C8-EEFE-4106-B19C-5800ED7D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4342-84AC-4DEC-9DBD-01A00378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8383-5B3A-42A4-9C97-6A27E9F2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1DA-AB42-4F8D-9CA4-41114316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EB3F-3820-4BA5-A45B-8C7F2A23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1E27-3CC5-4B8B-9046-3B4FEC0F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50E9-C875-47A6-BCCD-1820B485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F5965-3352-4FE2-9ABF-3F5389CB36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