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9458"/>
        <c:axId val="55438135"/>
      </c:barChart>
      <c:catAx>
        <c:axId val="9379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38135"/>
        <c:crosses val="autoZero"/>
        <c:auto val="1"/>
        <c:lblAlgn val="ctr"/>
        <c:lblOffset val="100"/>
        <c:noMultiLvlLbl val="0"/>
      </c:catAx>
      <c:valAx>
        <c:axId val="55438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9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61E-5F6F-4BD4-9B94-B453D109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3B1-9377-4066-AF0F-4BBA3D50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F5E-D884-4843-9FCB-905395CD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8DA-FD53-4018-AB34-1093A6D7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490-E81C-4ED2-97C7-6D5415B9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A4F-F652-4C79-B032-382C47B3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699-05A2-4501-A8EB-0C245115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9AE-7AFA-4DCC-A15B-D7D16E82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63B-9E97-47C6-91B9-57477B5E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AD0-3A12-4BB4-BBAC-627A57B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FED-4E58-49F9-92B7-72336BE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6BE-1D6A-49CA-9958-8CCF10FE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1B9BB-41B9-4B8C-B306-AADDE046AA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