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897465"/>
        <c:axId val="90246871"/>
      </c:barChart>
      <c:catAx>
        <c:axId val="858974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46871"/>
        <c:crosses val="autoZero"/>
        <c:auto val="1"/>
        <c:lblAlgn val="ctr"/>
        <c:lblOffset val="100"/>
        <c:noMultiLvlLbl val="0"/>
      </c:catAx>
      <c:valAx>
        <c:axId val="902468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974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7F5C-8F44-4EF4-82B9-5016D54AD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6ECB-7CD2-4F68-8C52-186924E9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9843-BB44-4E2A-9E1D-C24C91933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86AC-19BA-4ADD-9A15-E7EFEBB98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2CA5-6F79-4791-8ED0-53B4EB80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990C-E63C-406E-BF5E-9B583866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C73B-6074-4A2B-B923-FA8B8C38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05E3-28DC-4992-BA03-F7657671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37DA-FF79-443F-B92F-61B8ACAE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AAFD-1524-4A6F-8672-82A4F305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487B-721D-49A6-9726-4D75C414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4E34-527F-4992-B71B-EA96898D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91D3D-C833-4DE5-96DA-5E12394A92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