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33375"/>
        <c:axId val="9166184"/>
      </c:barChart>
      <c:catAx>
        <c:axId val="31833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6184"/>
        <c:crosses val="autoZero"/>
        <c:auto val="1"/>
        <c:lblAlgn val="ctr"/>
        <c:lblOffset val="100"/>
        <c:noMultiLvlLbl val="0"/>
      </c:catAx>
      <c:valAx>
        <c:axId val="9166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33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FFE-669E-4182-8184-11332A45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44A-D084-4AF2-BEB1-EE4D729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320-77E5-4C31-A64A-B23E1D22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0A0-4BD0-47FC-9E10-A355923F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CBD-D4FD-4285-87E2-F4CF47AA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B3A-BDF4-44DA-8318-8DDE2D03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FF75-248A-45A5-B8DA-B09061FC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4654-5F88-4633-8412-F43095F0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CC2-C57F-4CD3-9A4C-FCE30CC6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E38-E82E-4660-9751-41E40979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213-E2F8-4CDA-859E-04638EBA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A9C-E244-4D1E-BA48-67FC0C06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F8BF0-2205-4D13-8ECF-49C1A74100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