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01124"/>
        <c:axId val="22515191"/>
      </c:barChart>
      <c:catAx>
        <c:axId val="79501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15191"/>
        <c:crosses val="autoZero"/>
        <c:auto val="1"/>
        <c:lblAlgn val="ctr"/>
        <c:lblOffset val="100"/>
        <c:noMultiLvlLbl val="0"/>
      </c:catAx>
      <c:valAx>
        <c:axId val="22515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01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782-349A-4E63-AAA7-DB6D5B5C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A53-0558-4208-BD61-6868FFE7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ACA-8331-480D-B416-9B540F92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151-B2D1-48C9-AF41-A18D795E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B57-CE96-4F72-AA21-FFDA0A75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3EB-B582-4E98-B9A4-EB1939AC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41E-DA55-4F71-B9C0-A6A52FC5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322-AD6C-4861-B491-8B64E234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6F3-D0EC-4882-96AC-C1E5E9C5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00F-0DEE-45D8-ABCA-27E1848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B26-3DB5-4EAB-9D45-BBFAA16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1F5-CEA2-4C37-84B8-4C5E13D7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6E534-C943-4142-BA09-11A3DFE66E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