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61426"/>
        <c:axId val="69458516"/>
      </c:barChart>
      <c:catAx>
        <c:axId val="98861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58516"/>
        <c:crosses val="autoZero"/>
        <c:auto val="1"/>
        <c:lblAlgn val="ctr"/>
        <c:lblOffset val="100"/>
        <c:noMultiLvlLbl val="0"/>
      </c:catAx>
      <c:valAx>
        <c:axId val="69458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61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776-7125-4145-8C3B-C0A3F5C8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B9F-B8DC-4BDA-936D-F6A3AA1C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5AB-08EF-4FA5-A5A1-5F6B091F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998-BEB4-44B1-94A8-8C9EDC9B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1C5-581F-4DC7-A025-FB4D2FB0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FB7-A87D-446D-A34A-17EA9FA8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2DD-2712-4EA4-8694-FE1E48E3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F3E6-AE6F-4981-A526-DE0C9F8A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49A-B461-4090-95B7-BB4E8921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2AB-DEDD-4007-9BD0-CC96BF6E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F70-4278-4478-9F6D-59844174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9BE-40D5-4CA2-98F2-9E419827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A8E3C-B091-44D2-A61A-90FBC2FF94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