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32989"/>
        <c:axId val="22309355"/>
      </c:barChart>
      <c:catAx>
        <c:axId val="93432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9355"/>
        <c:crosses val="autoZero"/>
        <c:auto val="1"/>
        <c:lblAlgn val="ctr"/>
        <c:lblOffset val="100"/>
        <c:noMultiLvlLbl val="0"/>
      </c:catAx>
      <c:valAx>
        <c:axId val="2230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32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5B0-8FF6-4A15-88C5-4777E71D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760-7CCA-4ACB-9241-29A2F49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C91-B61B-4519-8F19-52DF05F7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DD8-569B-4C7A-88C5-869F2D04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166-53BD-4C98-9113-C04C7113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5BC-9C70-4B1B-B221-E0E2B789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C07-B3C1-4C10-953E-9242A29F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E1D-0B6B-4410-ABD5-8C42DB7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E92-3AA1-4C81-80AE-6722F34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CAC-DC87-4D4D-93EC-A5BA0D2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4AE-B043-433C-977E-9C9D49B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559-01D1-441C-A6A8-25E04A2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9452-C450-4E58-8137-8A9728CDA0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