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097408"/>
        <c:axId val="6332694"/>
      </c:barChart>
      <c:catAx>
        <c:axId val="840974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32694"/>
        <c:crosses val="autoZero"/>
        <c:auto val="1"/>
        <c:lblAlgn val="ctr"/>
        <c:lblOffset val="100"/>
        <c:noMultiLvlLbl val="0"/>
      </c:catAx>
      <c:valAx>
        <c:axId val="63326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0974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6F13-C38F-45A1-ABA9-988F2CD60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B8D4-3294-44E6-9198-DE234B9B7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8A70-273C-4086-90F3-C280F1A88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17D2-1D49-4B4F-B282-77578C14A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EFCA-6176-4DA9-B1FF-4551692C9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2F06-9C5B-437E-9AAB-01EB799F6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B8B9-4724-4ABD-86D0-78FADB937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5B3F-9DC3-4A08-9EDD-F3C3459DF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E04F-093C-4CF4-830E-89B7354B4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B361-79C8-4D95-BDDA-A4F86D22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FC15-BC4E-4942-9ED5-66892F98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8137-B5F6-4778-820D-AC98EDEB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6626AE-637F-4AFB-AA27-902ED80C2EA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