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7812351"/>
        <c:axId val="6643836"/>
      </c:barChart>
      <c:catAx>
        <c:axId val="2781235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43836"/>
        <c:crosses val="autoZero"/>
        <c:auto val="1"/>
        <c:lblAlgn val="ctr"/>
        <c:lblOffset val="100"/>
        <c:noMultiLvlLbl val="0"/>
      </c:catAx>
      <c:valAx>
        <c:axId val="664383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81235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0721-0908-42AA-9429-DBC5BB883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E49F-0EF3-4A3F-8D63-98A9975E3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AEC7-8B41-4D5A-8AB6-3305887AB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9388-BB51-43D8-AC26-6AD58D42D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C65F-5EA2-427D-A8C7-54FE04132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7A7F-F247-4B18-8620-0281EED26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F55B-8290-4BCC-8893-F5B879835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A89F-2D52-4435-8EF5-4EDD2576E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F193-5356-4E31-8230-CB4D7D165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CDE6-DDA3-436F-90F5-B1BAE3E9C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D76F-19A5-4915-9E32-AB9227ED8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3A5F-57CF-487C-BB4E-E341EA70B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9BBF55-12DE-4556-A2D0-86315106793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