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10904"/>
        <c:axId val="76603127"/>
      </c:barChart>
      <c:catAx>
        <c:axId val="76310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03127"/>
        <c:crosses val="autoZero"/>
        <c:auto val="1"/>
        <c:lblAlgn val="ctr"/>
        <c:lblOffset val="100"/>
        <c:noMultiLvlLbl val="0"/>
      </c:catAx>
      <c:valAx>
        <c:axId val="76603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10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F14-577A-4FCC-AA6C-3B216E69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B9F-5619-4710-B2CA-AF27A378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CA0-0287-4245-9D6C-72C03886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552-AD5A-427C-89D4-F588B885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56B-B213-427B-9974-4A9BD527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4FE-BC7A-4C6A-9D85-AFE54875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736-AB53-4194-91EE-BCF9F5D5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8BD-5CD5-4F61-B2B8-0F70F1DD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6AB-3FD3-46BE-9ABB-A776B869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70A-3409-4377-BF74-C7715E8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33A-365F-4EB3-83D9-D9A9DE9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711-0781-4C51-9380-D591B00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E4660-26B5-4424-9119-E1A211987D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