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63626"/>
        <c:axId val="71711895"/>
      </c:barChart>
      <c:catAx>
        <c:axId val="36263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11895"/>
        <c:crosses val="autoZero"/>
        <c:auto val="1"/>
        <c:lblAlgn val="ctr"/>
        <c:lblOffset val="100"/>
        <c:noMultiLvlLbl val="0"/>
      </c:catAx>
      <c:valAx>
        <c:axId val="71711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63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54D-EBB6-4777-8E1F-A19A5E78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3A9-9CAD-4C84-8D09-27846896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219-48AB-466F-BF83-FDE51B21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291-01A3-4E7D-AC23-F0A446E0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1BC-1BDB-4B23-8E3A-9D5B3C6B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BE1-E8B9-483B-B26E-19FDE0F2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99C-16FB-4546-BFA6-0AF3F18C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FF0-BB94-42A0-BD05-48BEC99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2FE-384B-49F2-92B6-8FB83B4A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563-17DE-417C-B87D-81F0E48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4B4-2546-464B-8E7A-8D14B4C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3CA-160E-4406-B404-D128CF9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5792E-A62E-4277-A55F-1493A685B3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