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48927"/>
        <c:axId val="76824259"/>
      </c:barChart>
      <c:catAx>
        <c:axId val="36548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4259"/>
        <c:crosses val="autoZero"/>
        <c:auto val="1"/>
        <c:lblAlgn val="ctr"/>
        <c:lblOffset val="100"/>
        <c:noMultiLvlLbl val="0"/>
      </c:catAx>
      <c:valAx>
        <c:axId val="76824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48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1C8-5FA5-443C-B825-0828633B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510-325D-46F9-9406-BDD8966B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B43-3503-4361-9D9F-E33629B1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07D-5912-4859-8203-6D7BE2B3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37B-1EDD-40E2-9236-786D3208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4A2-6BC4-41E2-A056-EECC374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018-D6C5-4B78-BACD-0276574F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CA3-87F1-4CCD-A4B2-498E6F7A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59D-241D-4512-B109-81C0F28C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93C-EA96-4932-A7AC-FBB1D37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FFE-B834-447B-B627-CAD95CAA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F30-561E-4270-9185-050F1313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280F3-E498-43E2-8DD1-1838A83CE3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