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45790"/>
        <c:axId val="81712212"/>
      </c:barChart>
      <c:catAx>
        <c:axId val="61045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12212"/>
        <c:crosses val="autoZero"/>
        <c:auto val="1"/>
        <c:lblAlgn val="ctr"/>
        <c:lblOffset val="100"/>
        <c:noMultiLvlLbl val="0"/>
      </c:catAx>
      <c:valAx>
        <c:axId val="81712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5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9A9-D377-46A4-B20E-D4EC6858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66D-725A-4B6C-9593-081B15C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08A-E161-442B-9560-9EC4BD0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E63-9DD7-40A2-994F-9062D903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568-D296-479D-B164-56DDE0A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C19-E902-4D2A-970B-613E7759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693-5FFB-4AC6-818C-CA76D0AC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DFF-75FA-4939-8B6F-262BD982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EF8-1233-4C39-AD43-59176B20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7F1-7C3A-443D-BE21-B24D1F5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A44-2FCD-410D-863A-AF83DB0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8E0-63E2-4476-B3E7-A5A2F39A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92A39-81E4-47A2-A478-84B5A8098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