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88857"/>
        <c:axId val="94812748"/>
      </c:barChart>
      <c:catAx>
        <c:axId val="40888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12748"/>
        <c:crosses val="autoZero"/>
        <c:auto val="1"/>
        <c:lblAlgn val="ctr"/>
        <c:lblOffset val="100"/>
        <c:noMultiLvlLbl val="0"/>
      </c:catAx>
      <c:valAx>
        <c:axId val="94812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8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9D5-C729-4B24-A8D7-2245C9C3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D43-AF60-467F-AB20-A9E1FCCB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AAB-B369-4E83-9DBE-1869153C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68E-99BA-456A-A7E2-7C5E3EBE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05E-34DB-4507-B2A7-99D01DD1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A56-CF21-477D-B94A-D9E36181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4C4-AA55-44C4-82B5-DE12C98A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0B6-3DB9-49F6-BE10-B1FC7A73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8A9-04DD-4B0F-ADAC-C39FE77C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029-FA2C-45C5-AE41-0BFAC16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495-78A8-4399-98CD-F8ABE2F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3E8-2714-448A-8C15-7C25EB25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6D950-5B0F-4D85-B067-6073EA47E1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