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2389449"/>
        <c:axId val="40857483"/>
      </c:barChart>
      <c:catAx>
        <c:axId val="4238944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0857483"/>
        <c:crosses val="autoZero"/>
        <c:auto val="1"/>
        <c:lblAlgn val="ctr"/>
        <c:lblOffset val="100"/>
        <c:noMultiLvlLbl val="0"/>
      </c:catAx>
      <c:valAx>
        <c:axId val="4085748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38944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F3007-F7F0-4DEA-A0D2-061CF77D1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43752-38A7-4FA9-9B01-5C95BA155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13AE5-2BBF-48F2-A81D-BC16E1D78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4C233-7DFE-4D9B-B589-3014A6D5B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1CB8E-AEFA-4ED4-BA4B-BEDE6F3F5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8981D-665D-43AB-98B1-EA656F18C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B6C4A-21F8-4640-9116-73B1FB39C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C9158-394D-472E-8A10-E101903D7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4D149-18C7-49BD-AFBC-A91A990C7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29F23-8601-46E0-A4D6-A8E2E282F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3BB4E-461C-4AFB-9A80-CB360512A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D2BFE-D908-49BB-A678-A9490603C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1D9F71-8CBB-4255-91F6-272555F37D3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