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514884"/>
        <c:axId val="47681264"/>
      </c:barChart>
      <c:catAx>
        <c:axId val="47514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81264"/>
        <c:crosses val="autoZero"/>
        <c:auto val="1"/>
        <c:lblAlgn val="ctr"/>
        <c:lblOffset val="100"/>
        <c:noMultiLvlLbl val="0"/>
      </c:catAx>
      <c:valAx>
        <c:axId val="47681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14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8B93-C817-4B5D-B10B-099A5BAA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287-E9EB-4944-8E63-FF6B3626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5098-A90B-4797-A902-ABC57E7A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DB55-453C-4A25-A4BE-8984E484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C5D-C9AE-4839-B7A5-90E2CABB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BA7-8915-4F9A-AD62-E27CE1B0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F336-E764-46E4-932C-676D8365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D17C-2469-4E66-A1E9-19B14731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D1B6-5E05-471E-97C7-EAB1B136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311-0D6F-4827-957B-BB23C0DC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E25-AFD8-4C28-A57B-EB9E4081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0801-07AA-47CE-9432-5380796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1F13D-0214-4B26-B92A-79124ACF4B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