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381037"/>
        <c:axId val="50684895"/>
      </c:barChart>
      <c:catAx>
        <c:axId val="483810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84895"/>
        <c:crosses val="autoZero"/>
        <c:auto val="1"/>
        <c:lblAlgn val="ctr"/>
        <c:lblOffset val="100"/>
        <c:noMultiLvlLbl val="0"/>
      </c:catAx>
      <c:valAx>
        <c:axId val="506848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810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6AAC-76BF-40AD-82B7-7F385601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C5AC-4EC5-4903-8438-CF68633E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C817-6680-462D-AB6F-539C42BB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6FCE-4638-46E2-8341-D03C3546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CD6C-A642-4A56-88C2-8A5AFD77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E749-D0CC-4350-AB6E-F0FB9E1D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9010-3BBC-4B8A-B698-7747CEB6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E13A-A82E-450A-A675-2027D918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F768-C64A-4327-9E55-47735AD6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7013-CD4F-4AB5-B4C1-909AAFC9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AB94-18C8-4B75-A7E2-9AF6DBEB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00C1-D5ED-4602-B9E4-8C08D827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95CD9-C45B-499A-A75A-CC93B4B2E5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