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71148"/>
        <c:axId val="72226529"/>
      </c:barChart>
      <c:catAx>
        <c:axId val="51371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26529"/>
        <c:crosses val="autoZero"/>
        <c:auto val="1"/>
        <c:lblAlgn val="ctr"/>
        <c:lblOffset val="100"/>
        <c:noMultiLvlLbl val="0"/>
      </c:catAx>
      <c:valAx>
        <c:axId val="722265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71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9FC-6E75-453C-B92C-CE58EE28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F17-7743-4E95-91FF-66E6AC07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387-1625-4369-9383-A2C5F48E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B00-9819-429F-91A8-AB1BA024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C95-13EB-4AD7-AE08-E10CA93A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3FD-D118-42DE-8BB7-93F45633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CD8-70C0-44D3-B8A0-943F5A0E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535-4E47-426B-B344-AB378DA3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933-BC7B-4480-A417-47B5525E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B5E-8B58-4C3F-8D3B-4E301440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A80-C99C-4FB5-AEB0-3852C1E1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80E-5DD4-4059-85ED-D5E739B9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60823-5975-453E-B829-77FE9CE072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