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42258"/>
        <c:axId val="16100682"/>
      </c:barChart>
      <c:catAx>
        <c:axId val="72942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00682"/>
        <c:crosses val="autoZero"/>
        <c:auto val="1"/>
        <c:lblAlgn val="ctr"/>
        <c:lblOffset val="100"/>
        <c:noMultiLvlLbl val="0"/>
      </c:catAx>
      <c:valAx>
        <c:axId val="16100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42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488-343B-44F3-834E-BFD5888A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F8D-AEB5-4D8C-A1EC-A81447A6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CA0-264C-47BD-8F6B-3FA5177F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D6E-EB33-4356-A2B8-8CAB27E2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313-FE53-4CB9-ACE1-35D3FB03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FEF-2942-4E02-A849-514A9493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BAB-E768-4C94-BD09-89279793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CD2-F8FE-4F93-9567-2812294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145-A3EA-4CD4-8144-B9F3CA29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83D-A3A3-4045-9271-F365DED8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DD6-C734-413D-9A72-A3004979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119-8C52-4155-AACC-E949D97E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9C808-778E-4755-8EB3-D16E33667C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