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20510"/>
        <c:axId val="91967588"/>
      </c:barChart>
      <c:catAx>
        <c:axId val="53320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67588"/>
        <c:crosses val="autoZero"/>
        <c:auto val="1"/>
        <c:lblAlgn val="ctr"/>
        <c:lblOffset val="100"/>
        <c:noMultiLvlLbl val="0"/>
      </c:catAx>
      <c:valAx>
        <c:axId val="9196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20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2C5-4B9F-4F93-A0CD-BED72FBA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142-DABB-4A52-A62C-1C4F117B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C8F-FB40-4E26-A551-F0C42986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1DB-3212-49A5-9673-B5EF08C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12B-BEE9-4FB3-A1A3-6A4A4A1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356-861C-47B3-A6BE-482BA4D9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BCD-D40F-4159-9479-EB3D326F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90F-F387-45E0-9D24-3038D56C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0D5-FA38-4F4E-B075-D22B2A5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4A9-512A-479F-A299-A4295F4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CF2-23EA-4721-9B65-A0E5B2C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407-0CEB-4007-A50C-9F92ABD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A3963-7629-4668-8829-B739C6910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