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498277"/>
        <c:axId val="48993087"/>
      </c:barChart>
      <c:catAx>
        <c:axId val="534982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93087"/>
        <c:crosses val="autoZero"/>
        <c:auto val="1"/>
        <c:lblAlgn val="ctr"/>
        <c:lblOffset val="100"/>
        <c:noMultiLvlLbl val="0"/>
      </c:catAx>
      <c:valAx>
        <c:axId val="489930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982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49BF-D8BF-4B74-B70E-D44442565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8575-136F-4AC7-A162-3F497187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6E82-5370-42F2-9D5C-54B19A363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F447-24B1-4931-8C65-CA3DC84A4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FDB8-DC01-41F9-BA8F-21DCF965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C7E5-D262-4DB9-8672-384D4E84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6207-6474-4D21-AB23-A3CB143E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ADD8-A86F-4700-A616-E38E02D7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F9B2-D62F-4E17-A210-FCCD5053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7B1A-879E-4F46-A2BA-6FBDC308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DE4E-5474-4A5B-B85D-D35CCEE2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5CE3-DF88-430B-9760-AA9652D6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91C17-10CA-4B5D-8104-74BBE8791F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